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0288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925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440" y="3682080"/>
            <a:ext cx="925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4440" y="368208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59240" y="368208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5000" y="160452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560" y="160452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4440" y="368208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5000" y="368208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775560" y="368208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14440" y="273600"/>
            <a:ext cx="92595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14440" y="368208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59240" y="368208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4440" y="3682080"/>
            <a:ext cx="925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287000" cy="686736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395280" y="304920"/>
            <a:ext cx="882720" cy="154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14440" y="273600"/>
            <a:ext cx="92595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w3schools.com/xml/xml_namespaces.asp" TargetMode="External"/><Relationship Id="rId2" Type="http://schemas.openxmlformats.org/officeDocument/2006/relationships/hyperlink" Target="http://www.w3schools.com/xml/xml_namespaces.asp" TargetMode="External"/><Relationship Id="rId3" Type="http://schemas.openxmlformats.org/officeDocument/2006/relationships/hyperlink" Target="http://www.w3schools.com/xml/xml_namespaces.asp" TargetMode="External"/><Relationship Id="rId4" Type="http://schemas.openxmlformats.org/officeDocument/2006/relationships/hyperlink" Target="http://www.w3schools.com/xml/xml_namespaces.asp" TargetMode="External"/><Relationship Id="rId5" Type="http://schemas.openxmlformats.org/officeDocument/2006/relationships/hyperlink" Target="http://www.w3schools.com/xml/xml_namespaces.asp" TargetMode="External"/><Relationship Id="rId6" Type="http://schemas.openxmlformats.org/officeDocument/2006/relationships/hyperlink" Target="http://www.w3schools.com/xml/xml_namespaces.asp" TargetMode="External"/><Relationship Id="rId7" Type="http://schemas.openxmlformats.org/officeDocument/2006/relationships/hyperlink" Target="http://www.w3schools.com/xml/xml_namespaces.asp" TargetMode="External"/><Relationship Id="rId8" Type="http://schemas.openxmlformats.org/officeDocument/2006/relationships/hyperlink" Target="http://www.w3schools.com/xml/xml_namespaces.asp" TargetMode="External"/><Relationship Id="rId9" Type="http://schemas.openxmlformats.org/officeDocument/2006/relationships/hyperlink" Target="http://www.w3schools.com/xml/xml_namespaces.asp" TargetMode="External"/><Relationship Id="rId10" Type="http://schemas.openxmlformats.org/officeDocument/2006/relationships/hyperlink" Target="http://www.w3schools.com/xml/xml_namespaces.asp" TargetMode="External"/><Relationship Id="rId11" Type="http://schemas.openxmlformats.org/officeDocument/2006/relationships/hyperlink" Target="http://www.w3schools.com/xml/xml_namespaces.asp" TargetMode="External"/><Relationship Id="rId12" Type="http://schemas.openxmlformats.org/officeDocument/2006/relationships/hyperlink" Target="http://www.w3schools.com/xml/xml_namespaces.asp" TargetMode="External"/><Relationship Id="rId13" Type="http://schemas.openxmlformats.org/officeDocument/2006/relationships/hyperlink" Target="http://www.w3schools.com/xpath/" TargetMode="External"/><Relationship Id="rId14" Type="http://schemas.openxmlformats.org/officeDocument/2006/relationships/hyperlink" Target="http://www.w3schools.com/xpath/" TargetMode="External"/><Relationship Id="rId15" Type="http://schemas.openxmlformats.org/officeDocument/2006/relationships/hyperlink" Target="http://www.w3schools.com/xpath/" TargetMode="External"/><Relationship Id="rId16" Type="http://schemas.openxmlformats.org/officeDocument/2006/relationships/hyperlink" Target="http://www.w3schools.com/xpath/" TargetMode="External"/><Relationship Id="rId17" Type="http://schemas.openxmlformats.org/officeDocument/2006/relationships/hyperlink" Target="http://www.w3schools.com/xpath/" TargetMode="External"/><Relationship Id="rId18" Type="http://schemas.openxmlformats.org/officeDocument/2006/relationships/hyperlink" Target="http://www.w3schools.com/xpath/" TargetMode="External"/><Relationship Id="rId19" Type="http://schemas.openxmlformats.org/officeDocument/2006/relationships/hyperlink" Target="http://www.w3schools.com/xpath/" TargetMode="External"/><Relationship Id="rId20" Type="http://schemas.openxmlformats.org/officeDocument/2006/relationships/hyperlink" Target="http://www.w3schools.com/xquery/default.asp" TargetMode="External"/><Relationship Id="rId21" Type="http://schemas.openxmlformats.org/officeDocument/2006/relationships/hyperlink" Target="http://www.w3schools.com/xquery/default.asp" TargetMode="External"/><Relationship Id="rId22" Type="http://schemas.openxmlformats.org/officeDocument/2006/relationships/hyperlink" Target="http://www.w3schools.com/xquery/default.asp" TargetMode="External"/><Relationship Id="rId23" Type="http://schemas.openxmlformats.org/officeDocument/2006/relationships/hyperlink" Target="http://www.w3schools.com/xquery/default.asp" TargetMode="External"/><Relationship Id="rId24" Type="http://schemas.openxmlformats.org/officeDocument/2006/relationships/hyperlink" Target="http://www.w3schools.com/xquery/default.asp" TargetMode="External"/><Relationship Id="rId25" Type="http://schemas.openxmlformats.org/officeDocument/2006/relationships/hyperlink" Target="http://www.w3schools.com/xquery/default.asp" TargetMode="External"/><Relationship Id="rId26" Type="http://schemas.openxmlformats.org/officeDocument/2006/relationships/hyperlink" Target="http://www.w3schools.com/xquery/default.asp" TargetMode="External"/><Relationship Id="rId27" Type="http://schemas.openxmlformats.org/officeDocument/2006/relationships/hyperlink" Target="http://www.w3schools.com/xquery/default.asp" TargetMode="External"/><Relationship Id="rId28" Type="http://schemas.openxmlformats.org/officeDocument/2006/relationships/hyperlink" Target="http://www.w3schools.com/xquery/default.asp" TargetMode="External"/><Relationship Id="rId29" Type="http://schemas.openxmlformats.org/officeDocument/2006/relationships/hyperlink" Target="http://www.w3schools.com/xquery/default.asp" TargetMode="External"/><Relationship Id="rId30" Type="http://schemas.openxmlformats.org/officeDocument/2006/relationships/hyperlink" Target="http://www.w3schools.com/dom/default.asp" TargetMode="External"/><Relationship Id="rId31" Type="http://schemas.openxmlformats.org/officeDocument/2006/relationships/hyperlink" Target="http://www.w3schools.com/dom/default.asp" TargetMode="External"/><Relationship Id="rId32" Type="http://schemas.openxmlformats.org/officeDocument/2006/relationships/hyperlink" Target="http://www.w3schools.com/dom/default.asp" TargetMode="External"/><Relationship Id="rId33" Type="http://schemas.openxmlformats.org/officeDocument/2006/relationships/hyperlink" Target="http://www.w3schools.com/dom/default.asp" TargetMode="External"/><Relationship Id="rId34" Type="http://schemas.openxmlformats.org/officeDocument/2006/relationships/hyperlink" Target="http://www.w3schools.com/dom/default.asp" TargetMode="External"/><Relationship Id="rId35" Type="http://schemas.openxmlformats.org/officeDocument/2006/relationships/hyperlink" Target="http://www.w3schools.com/dom/default.asp" TargetMode="External"/><Relationship Id="rId36" Type="http://schemas.openxmlformats.org/officeDocument/2006/relationships/hyperlink" Target="http://www.w3schools.com/dom/default.asp" TargetMode="External"/><Relationship Id="rId37" Type="http://schemas.openxmlformats.org/officeDocument/2006/relationships/hyperlink" Target="http://www.w3schools.com/dom/default.asp" TargetMode="External"/><Relationship Id="rId38" Type="http://schemas.openxmlformats.org/officeDocument/2006/relationships/hyperlink" Target="http://www.w3schools.com/dom/default.asp" TargetMode="External"/><Relationship Id="rId39" Type="http://schemas.openxmlformats.org/officeDocument/2006/relationships/hyperlink" Target="http://www.w3schools.com/dom/default.asp" TargetMode="External"/><Relationship Id="rId40" Type="http://schemas.openxmlformats.org/officeDocument/2006/relationships/hyperlink" Target="http://www.w3schools.com/xsl/" TargetMode="External"/><Relationship Id="rId41" Type="http://schemas.openxmlformats.org/officeDocument/2006/relationships/hyperlink" Target="http://www.w3schools.com/xsl/" TargetMode="External"/><Relationship Id="rId42" Type="http://schemas.openxmlformats.org/officeDocument/2006/relationships/hyperlink" Target="http://www.w3schools.com/xsl/" TargetMode="External"/><Relationship Id="rId43" Type="http://schemas.openxmlformats.org/officeDocument/2006/relationships/hyperlink" Target="http://www.w3schools.com/xsl/" TargetMode="External"/><Relationship Id="rId44" Type="http://schemas.openxmlformats.org/officeDocument/2006/relationships/hyperlink" Target="http://www.w3schools.com/xsl/" TargetMode="External"/><Relationship Id="rId45" Type="http://schemas.openxmlformats.org/officeDocument/2006/relationships/hyperlink" Target="http://www.w3schools.com/xsl/" TargetMode="External"/><Relationship Id="rId46" Type="http://schemas.openxmlformats.org/officeDocument/2006/relationships/hyperlink" Target="http://www.w3schools.com/xsl/" TargetMode="External"/><Relationship Id="rId47" Type="http://schemas.openxmlformats.org/officeDocument/2006/relationships/hyperlink" Target="http://www.w3schools.com/xslfo/default.asp" TargetMode="External"/><Relationship Id="rId48" Type="http://schemas.openxmlformats.org/officeDocument/2006/relationships/hyperlink" Target="http://www.w3schools.com/xslfo/default.asp" TargetMode="External"/><Relationship Id="rId49" Type="http://schemas.openxmlformats.org/officeDocument/2006/relationships/hyperlink" Target="http://www.w3schools.com/xslfo/default.asp" TargetMode="External"/><Relationship Id="rId50" Type="http://schemas.openxmlformats.org/officeDocument/2006/relationships/hyperlink" Target="http://www.w3schools.com/xslfo/default.asp" TargetMode="External"/><Relationship Id="rId51" Type="http://schemas.openxmlformats.org/officeDocument/2006/relationships/hyperlink" Target="http://www.w3schools.com/xslfo/default.asp" TargetMode="External"/><Relationship Id="rId52" Type="http://schemas.openxmlformats.org/officeDocument/2006/relationships/hyperlink" Target="http://www.w3schools.com/xslfo/default.asp" TargetMode="External"/><Relationship Id="rId53" Type="http://schemas.openxmlformats.org/officeDocument/2006/relationships/hyperlink" Target="http://www.w3schools.com/xslfo/default.asp" TargetMode="External"/><Relationship Id="rId54" Type="http://schemas.openxmlformats.org/officeDocument/2006/relationships/hyperlink" Target="http://www.w3schools.com/xslfo/default.asp" TargetMode="External"/><Relationship Id="rId55" Type="http://schemas.openxmlformats.org/officeDocument/2006/relationships/hyperlink" Target="http://www.w3schools.com/xslfo/default.asp" TargetMode="External"/><Relationship Id="rId56" Type="http://schemas.openxmlformats.org/officeDocument/2006/relationships/hyperlink" Target="http://www.w3schools.com/xslfo/default.asp" TargetMode="External"/><Relationship Id="rId57" Type="http://schemas.openxmlformats.org/officeDocument/2006/relationships/hyperlink" Target="http://www.w3schools.com/xlink/default.asp" TargetMode="External"/><Relationship Id="rId58" Type="http://schemas.openxmlformats.org/officeDocument/2006/relationships/hyperlink" Target="http://www.w3schools.com/xlink/default.asp" TargetMode="External"/><Relationship Id="rId59" Type="http://schemas.openxmlformats.org/officeDocument/2006/relationships/hyperlink" Target="http://www.w3schools.com/xlink/default.asp" TargetMode="External"/><Relationship Id="rId60" Type="http://schemas.openxmlformats.org/officeDocument/2006/relationships/hyperlink" Target="http://www.w3schools.com/xlink/default.asp" TargetMode="External"/><Relationship Id="rId61" Type="http://schemas.openxmlformats.org/officeDocument/2006/relationships/hyperlink" Target="http://www.w3schools.com/xlink/default.asp" TargetMode="External"/><Relationship Id="rId62" Type="http://schemas.openxmlformats.org/officeDocument/2006/relationships/hyperlink" Target="http://www.w3schools.com/xlink/default.asp" TargetMode="External"/><Relationship Id="rId63" Type="http://schemas.openxmlformats.org/officeDocument/2006/relationships/hyperlink" Target="http://www.w3schools.com/xlink/default.asp" TargetMode="External"/><Relationship Id="rId64" Type="http://schemas.openxmlformats.org/officeDocument/2006/relationships/hyperlink" Target="http://www.w3schools.com/xlink/default.asp" TargetMode="External"/><Relationship Id="rId65" Type="http://schemas.openxmlformats.org/officeDocument/2006/relationships/hyperlink" Target="http://www.w3schools.com/xlink/default.asp" TargetMode="External"/><Relationship Id="rId66" Type="http://schemas.openxmlformats.org/officeDocument/2006/relationships/hyperlink" Target="http://www.w3schools.com/xlink/default.asp" TargetMode="External"/><Relationship Id="rId6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u.wikipedia.org/wiki/XML" TargetMode="External"/><Relationship Id="rId2" Type="http://schemas.openxmlformats.org/officeDocument/2006/relationships/hyperlink" Target="http://eu.wikipedia.org/wiki/XML" TargetMode="External"/><Relationship Id="rId3" Type="http://schemas.openxmlformats.org/officeDocument/2006/relationships/hyperlink" Target="http://eu.wikipedia.org/wiki/XML" TargetMode="External"/><Relationship Id="rId4" Type="http://schemas.openxmlformats.org/officeDocument/2006/relationships/hyperlink" Target="http://eu.wikipedia.org/wiki/XML" TargetMode="External"/><Relationship Id="rId5" Type="http://schemas.openxmlformats.org/officeDocument/2006/relationships/hyperlink" Target="http://eu.wikipedia.org/wiki/XML" TargetMode="External"/><Relationship Id="rId6" Type="http://schemas.openxmlformats.org/officeDocument/2006/relationships/hyperlink" Target="http://eu.wikipedia.org/wiki/XML" TargetMode="External"/><Relationship Id="rId7" Type="http://schemas.openxmlformats.org/officeDocument/2006/relationships/hyperlink" Target="http://eu.wikipedia.org/wiki/XML" TargetMode="External"/><Relationship Id="rId8" Type="http://schemas.openxmlformats.org/officeDocument/2006/relationships/hyperlink" Target="http://eu.wikipedia.org/wiki/XML" TargetMode="External"/><Relationship Id="rId9" Type="http://schemas.openxmlformats.org/officeDocument/2006/relationships/hyperlink" Target="http://eu.wikipedia.org/wiki/XML" TargetMode="External"/><Relationship Id="rId10" Type="http://schemas.openxmlformats.org/officeDocument/2006/relationships/hyperlink" Target="http://en.wikipedia.org/wiki/XML" TargetMode="External"/><Relationship Id="rId11" Type="http://schemas.openxmlformats.org/officeDocument/2006/relationships/hyperlink" Target="http://en.wikipedia.org/wiki/XML" TargetMode="External"/><Relationship Id="rId12" Type="http://schemas.openxmlformats.org/officeDocument/2006/relationships/hyperlink" Target="http://en.wikipedia.org/wiki/XML" TargetMode="External"/><Relationship Id="rId13" Type="http://schemas.openxmlformats.org/officeDocument/2006/relationships/hyperlink" Target="http://en.wikipedia.org/wiki/XML" TargetMode="External"/><Relationship Id="rId14" Type="http://schemas.openxmlformats.org/officeDocument/2006/relationships/hyperlink" Target="http://en.wikipedia.org/wiki/XML" TargetMode="External"/><Relationship Id="rId15" Type="http://schemas.openxmlformats.org/officeDocument/2006/relationships/hyperlink" Target="http://en.wikipedia.org/wiki/XML" TargetMode="External"/><Relationship Id="rId16" Type="http://schemas.openxmlformats.org/officeDocument/2006/relationships/hyperlink" Target="http://en.wikipedia.org/wiki/XML" TargetMode="External"/><Relationship Id="rId17" Type="http://schemas.openxmlformats.org/officeDocument/2006/relationships/hyperlink" Target="http://en.wikipedia.org/wiki/XML" TargetMode="External"/><Relationship Id="rId18" Type="http://schemas.openxmlformats.org/officeDocument/2006/relationships/hyperlink" Target="http://en.wikipedia.org/wiki/XML" TargetMode="External"/><Relationship Id="rId19" Type="http://schemas.openxmlformats.org/officeDocument/2006/relationships/hyperlink" Target="http://www.w3.org/TR/2006/REC-xml11-20060816/" TargetMode="External"/><Relationship Id="rId20" Type="http://schemas.openxmlformats.org/officeDocument/2006/relationships/hyperlink" Target="http://www.w3.org/TR/2006/REC-xml11-20060816/" TargetMode="External"/><Relationship Id="rId21" Type="http://schemas.openxmlformats.org/officeDocument/2006/relationships/hyperlink" Target="http://www.w3.org/TR/2006/REC-xml11-20060816/" TargetMode="External"/><Relationship Id="rId22" Type="http://schemas.openxmlformats.org/officeDocument/2006/relationships/hyperlink" Target="http://www.w3.org/TR/2006/REC-xml11-20060816/" TargetMode="External"/><Relationship Id="rId23" Type="http://schemas.openxmlformats.org/officeDocument/2006/relationships/hyperlink" Target="http://www.w3.org/TR/2006/REC-xml11-20060816/" TargetMode="External"/><Relationship Id="rId24" Type="http://schemas.openxmlformats.org/officeDocument/2006/relationships/hyperlink" Target="http://www.w3schools.com/xml/default.asp" TargetMode="External"/><Relationship Id="rId25" Type="http://schemas.openxmlformats.org/officeDocument/2006/relationships/hyperlink" Target="http://www.w3schools.com/xml/default.asp" TargetMode="External"/><Relationship Id="rId26" Type="http://schemas.openxmlformats.org/officeDocument/2006/relationships/hyperlink" Target="http://www.w3schools.com/xml/default.asp" TargetMode="External"/><Relationship Id="rId27" Type="http://schemas.openxmlformats.org/officeDocument/2006/relationships/hyperlink" Target="http://www.w3schools.com/xml/default.asp" TargetMode="External"/><Relationship Id="rId28" Type="http://schemas.openxmlformats.org/officeDocument/2006/relationships/hyperlink" Target="http://www.w3schools.com/xml/default.asp" TargetMode="External"/><Relationship Id="rId29" Type="http://schemas.openxmlformats.org/officeDocument/2006/relationships/hyperlink" Target="http://www.w3schools.com/xml/default.asp" TargetMode="External"/><Relationship Id="rId30" Type="http://schemas.openxmlformats.org/officeDocument/2006/relationships/hyperlink" Target="http://www.w3schools.com/xml/default.asp" TargetMode="External"/><Relationship Id="rId31" Type="http://schemas.openxmlformats.org/officeDocument/2006/relationships/hyperlink" Target="http://www.w3schools.com/xml/default.asp" TargetMode="External"/><Relationship Id="rId32" Type="http://schemas.openxmlformats.org/officeDocument/2006/relationships/hyperlink" Target="http://www.w3schools.com/xml/default.asp" TargetMode="External"/><Relationship Id="rId33" Type="http://schemas.openxmlformats.org/officeDocument/2006/relationships/hyperlink" Target="http://www.w3schools.com/xml/default.asp" TargetMode="External"/><Relationship Id="rId34" Type="http://schemas.openxmlformats.org/officeDocument/2006/relationships/hyperlink" Target="http://www.w3schools.com/dtd/default.asp" TargetMode="External"/><Relationship Id="rId35" Type="http://schemas.openxmlformats.org/officeDocument/2006/relationships/hyperlink" Target="http://www.w3schools.com/dtd/default.asp" TargetMode="External"/><Relationship Id="rId36" Type="http://schemas.openxmlformats.org/officeDocument/2006/relationships/hyperlink" Target="http://www.w3schools.com/dtd/default.asp" TargetMode="External"/><Relationship Id="rId37" Type="http://schemas.openxmlformats.org/officeDocument/2006/relationships/hyperlink" Target="http://www.w3schools.com/dtd/default.asp" TargetMode="External"/><Relationship Id="rId38" Type="http://schemas.openxmlformats.org/officeDocument/2006/relationships/hyperlink" Target="http://www.w3schools.com/dtd/default.asp" TargetMode="External"/><Relationship Id="rId39" Type="http://schemas.openxmlformats.org/officeDocument/2006/relationships/hyperlink" Target="http://www.w3schools.com/dtd/default.asp" TargetMode="External"/><Relationship Id="rId40" Type="http://schemas.openxmlformats.org/officeDocument/2006/relationships/hyperlink" Target="http://www.w3schools.com/dtd/default.asp" TargetMode="External"/><Relationship Id="rId41" Type="http://schemas.openxmlformats.org/officeDocument/2006/relationships/hyperlink" Target="http://www.w3schools.com/dtd/default.asp" TargetMode="External"/><Relationship Id="rId42" Type="http://schemas.openxmlformats.org/officeDocument/2006/relationships/hyperlink" Target="http://www.w3schools.com/dtd/default.asp" TargetMode="External"/><Relationship Id="rId43" Type="http://schemas.openxmlformats.org/officeDocument/2006/relationships/hyperlink" Target="http://www.w3schools.com/dtd/default.asp" TargetMode="External"/><Relationship Id="rId44" Type="http://schemas.openxmlformats.org/officeDocument/2006/relationships/hyperlink" Target="http://www.w3schools.com/schema/default.asp" TargetMode="External"/><Relationship Id="rId45" Type="http://schemas.openxmlformats.org/officeDocument/2006/relationships/hyperlink" Target="http://www.w3schools.com/schema/default.asp" TargetMode="External"/><Relationship Id="rId46" Type="http://schemas.openxmlformats.org/officeDocument/2006/relationships/hyperlink" Target="http://www.w3schools.com/schema/default.asp" TargetMode="External"/><Relationship Id="rId47" Type="http://schemas.openxmlformats.org/officeDocument/2006/relationships/hyperlink" Target="http://www.w3schools.com/schema/default.asp" TargetMode="External"/><Relationship Id="rId48" Type="http://schemas.openxmlformats.org/officeDocument/2006/relationships/hyperlink" Target="http://www.w3schools.com/schema/default.asp" TargetMode="External"/><Relationship Id="rId49" Type="http://schemas.openxmlformats.org/officeDocument/2006/relationships/hyperlink" Target="http://www.w3schools.com/schema/default.asp" TargetMode="External"/><Relationship Id="rId50" Type="http://schemas.openxmlformats.org/officeDocument/2006/relationships/hyperlink" Target="http://www.w3schools.com/schema/default.asp" TargetMode="External"/><Relationship Id="rId51" Type="http://schemas.openxmlformats.org/officeDocument/2006/relationships/hyperlink" Target="http://www.w3schools.com/schema/default.asp" TargetMode="External"/><Relationship Id="rId52" Type="http://schemas.openxmlformats.org/officeDocument/2006/relationships/hyperlink" Target="http://www.w3schools.com/schema/default.asp" TargetMode="External"/><Relationship Id="rId53" Type="http://schemas.openxmlformats.org/officeDocument/2006/relationships/hyperlink" Target="http://www.w3schools.com/schema/default.asp" TargetMode="External"/><Relationship Id="rId54" Type="http://schemas.openxmlformats.org/officeDocument/2006/relationships/hyperlink" Target="http://www.oasis-open.org/committees/relax-ng/tutorial.html" TargetMode="External"/><Relationship Id="rId55" Type="http://schemas.openxmlformats.org/officeDocument/2006/relationships/hyperlink" Target="http://www.oasis-open.org/committees/relax-ng/tutorial.html" TargetMode="External"/><Relationship Id="rId56" Type="http://schemas.openxmlformats.org/officeDocument/2006/relationships/hyperlink" Target="http://www.oasis-open.org/committees/relax-ng/tutorial.html" TargetMode="External"/><Relationship Id="rId57" Type="http://schemas.openxmlformats.org/officeDocument/2006/relationships/hyperlink" Target="http://www.oasis-open.org/committees/relax-ng/tutorial.html" TargetMode="External"/><Relationship Id="rId58" Type="http://schemas.openxmlformats.org/officeDocument/2006/relationships/hyperlink" Target="http://www.oasis-open.org/committees/relax-ng/tutorial.html" TargetMode="External"/><Relationship Id="rId59" Type="http://schemas.openxmlformats.org/officeDocument/2006/relationships/hyperlink" Target="http://www.oasis-open.org/committees/relax-ng/tutorial.html" TargetMode="External"/><Relationship Id="rId60" Type="http://schemas.openxmlformats.org/officeDocument/2006/relationships/hyperlink" Target="http://www.oasis-open.org/committees/relax-ng/tutorial.html" TargetMode="External"/><Relationship Id="rId61" Type="http://schemas.openxmlformats.org/officeDocument/2006/relationships/hyperlink" Target="http://www.oasis-open.org/committees/relax-ng/tutorial.html" TargetMode="External"/><Relationship Id="rId62" Type="http://schemas.openxmlformats.org/officeDocument/2006/relationships/hyperlink" Target="http://www.oasis-open.org/committees/relax-ng/tutorial.html" TargetMode="External"/><Relationship Id="rId63" Type="http://schemas.openxmlformats.org/officeDocument/2006/relationships/hyperlink" Target="http://www.oasis-open.org/committees/relax-ng/tutorial.html" TargetMode="External"/><Relationship Id="rId64" Type="http://schemas.openxmlformats.org/officeDocument/2006/relationships/hyperlink" Target="http://www.oasis-open.org/committees/relax-ng/tutorial.html" TargetMode="External"/><Relationship Id="rId65" Type="http://schemas.openxmlformats.org/officeDocument/2006/relationships/hyperlink" Target="http://www.oasis-open.org/committees/relax-ng/tutorial.html" TargetMode="External"/><Relationship Id="rId66" Type="http://schemas.openxmlformats.org/officeDocument/2006/relationships/hyperlink" Target="http://www.oasis-open.org/committees/relax-ng/tutorial.html" TargetMode="External"/><Relationship Id="rId67" Type="http://schemas.openxmlformats.org/officeDocument/2006/relationships/hyperlink" Target="http://www.oasis-open.org/committees/relax-ng/tutorial.html" TargetMode="External"/><Relationship Id="rId6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1760" y="1294920"/>
            <a:ext cx="876276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AJAX bidezko programazioa praktikaren bitartez:</a:t>
            </a:r>
            <a:br>
              <a:rPr sz="4400"/>
            </a:b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XML - DOM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523520" y="388620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Igor Letur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Elhuyar Fundazioa - I+G sail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UEU 2007/07/18-1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XM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Tutorialak (II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Izen-espazioak: 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www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.w3schools.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com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5"/>
              </a:rPr>
              <a:t>/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6"/>
              </a:rPr>
              <a:t>xml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7"/>
              </a:rPr>
              <a:t>/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8"/>
              </a:rPr>
              <a:t>xml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9"/>
              </a:rPr>
              <a:t>_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10"/>
              </a:rPr>
              <a:t>namespaces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11"/>
              </a:rPr>
              <a:t>.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12"/>
              </a:rPr>
              <a:t>as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XPath: 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13"/>
              </a:rPr>
              <a:t>http://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14"/>
              </a:rPr>
              <a:t>www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15"/>
              </a:rPr>
              <a:t>.w3schools.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16"/>
              </a:rPr>
              <a:t>com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17"/>
              </a:rPr>
              <a:t>/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18"/>
              </a:rPr>
              <a:t>xpath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19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XQuery: 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20"/>
              </a:rPr>
              <a:t>http://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21"/>
              </a:rPr>
              <a:t>www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22"/>
              </a:rPr>
              <a:t>.w3schools.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23"/>
              </a:rPr>
              <a:t>com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24"/>
              </a:rPr>
              <a:t>/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25"/>
              </a:rPr>
              <a:t>xquery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26"/>
              </a:rPr>
              <a:t>/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27"/>
              </a:rPr>
              <a:t>default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28"/>
              </a:rPr>
              <a:t>.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29"/>
              </a:rPr>
              <a:t>as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DOM: 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30"/>
              </a:rPr>
              <a:t>http://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31"/>
              </a:rPr>
              <a:t>www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32"/>
              </a:rPr>
              <a:t>.w3schools.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33"/>
              </a:rPr>
              <a:t>com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34"/>
              </a:rPr>
              <a:t>/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35"/>
              </a:rPr>
              <a:t>dom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36"/>
              </a:rPr>
              <a:t>/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37"/>
              </a:rPr>
              <a:t>default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38"/>
              </a:rPr>
              <a:t>.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39"/>
              </a:rPr>
              <a:t>as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XSLT: 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40"/>
              </a:rPr>
              <a:t>http://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41"/>
              </a:rPr>
              <a:t>www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42"/>
              </a:rPr>
              <a:t>.w3schools.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43"/>
              </a:rPr>
              <a:t>com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44"/>
              </a:rPr>
              <a:t>/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45"/>
              </a:rPr>
              <a:t>xsl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46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XSL-FO: 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47"/>
              </a:rPr>
              <a:t>http://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48"/>
              </a:rPr>
              <a:t>www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49"/>
              </a:rPr>
              <a:t>.w3schools.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50"/>
              </a:rPr>
              <a:t>com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51"/>
              </a:rPr>
              <a:t>/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52"/>
              </a:rPr>
              <a:t>xslfo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53"/>
              </a:rPr>
              <a:t>/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54"/>
              </a:rPr>
              <a:t>default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55"/>
              </a:rPr>
              <a:t>.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56"/>
              </a:rPr>
              <a:t>as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XLink eta XPointer: 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57"/>
              </a:rPr>
              <a:t>http://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58"/>
              </a:rPr>
              <a:t>www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59"/>
              </a:rPr>
              <a:t>.w3schools.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60"/>
              </a:rPr>
              <a:t>com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61"/>
              </a:rPr>
              <a:t>/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62"/>
              </a:rPr>
              <a:t>xlink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63"/>
              </a:rPr>
              <a:t>/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64"/>
              </a:rPr>
              <a:t>default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65"/>
              </a:rPr>
              <a:t>.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66"/>
              </a:rPr>
              <a:t>as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DOM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u-ES" sz="2400" spc="-1" strike="noStrike">
                <a:solidFill>
                  <a:srgbClr val="000000"/>
                </a:solidFill>
                <a:latin typeface="Verdana"/>
              </a:rPr>
              <a:t>Document Object Mod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XML dokumentuak objektu moduan nola adierazi definitzen duen espezifikazioa, horrela programetan dokumentuok irakurri edo aldatzea ahalbidetuz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Programazio lengoaiek DOM inplementatzen duten liburutegiak dituz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Inplementazio horiek XML dokumentuak DOM objektu bihurtzeko funtzioak dituzte, eta alderantziz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DOM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XML dokumentu baten dagoen guztia nodo bat d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Dokumentu osoa dokumentu motako nodoa 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Etiketak elementu motako nodoak dir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Testuak testu motako nodoak dir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Atributuak atributu motako nodoak dir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Komentarioak komentario motako nodoak dir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Hauez gain, prozesatze-instrukzio eta entitate motakoak ere dau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Nodoak hierarkikoki erlazionatuta daud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Etiketa batek barruan beste etiketa bat edo testu bat edo komentario bat duenean, dagokien nodoen artean aita-seme erlazioa dag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Aita bera duten nodoek anai erlazioa du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Atributuak beste maila baten dau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Nodo mota bakoitzak bere propietate eta metodoak dit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DOM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&lt;liburutegia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&lt;liburua id=“1”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&lt;izenburua&gt;Gero&lt;/izenburua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&lt;egilea&gt;Axular&lt;/egilea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&lt;/liburua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&lt;liburua id=“2”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&lt;izenburua&gt;Garoa&lt;/izenburua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&lt;egilea&gt;Txomin Agirre&lt;/egilea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&lt;/liburua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&lt;/liburutegia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"/>
          <p:cNvSpPr/>
          <p:nvPr/>
        </p:nvSpPr>
        <p:spPr>
          <a:xfrm>
            <a:off x="6019920" y="1981080"/>
            <a:ext cx="38098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dokumentu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0" lang="eu-ES" sz="1800" spc="-1" strike="noStrike">
                <a:solidFill>
                  <a:srgbClr val="ff3300"/>
                </a:solidFill>
                <a:latin typeface="Verdana"/>
              </a:rPr>
              <a:t>liburuteg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0" lang="eu-ES" sz="1800" spc="-1" strike="noStrike">
                <a:solidFill>
                  <a:srgbClr val="ff3300"/>
                </a:solidFill>
                <a:latin typeface="Verdana"/>
              </a:rPr>
              <a:t>liburua</a:t>
            </a: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800" spc="-1" strike="noStrike">
                <a:solidFill>
                  <a:srgbClr val="0000ff"/>
                </a:solidFill>
                <a:latin typeface="Verdana"/>
              </a:rPr>
              <a:t>id: 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0" lang="eu-ES" sz="1800" spc="-1" strike="noStrike">
                <a:solidFill>
                  <a:srgbClr val="ff3300"/>
                </a:solidFill>
                <a:latin typeface="Verdana"/>
              </a:rPr>
              <a:t>izenburu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800" spc="-1" strike="noStrike">
                <a:solidFill>
                  <a:srgbClr val="00cc00"/>
                </a:solidFill>
                <a:latin typeface="Verdana"/>
              </a:rPr>
              <a:t>Ge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0" lang="eu-ES" sz="1800" spc="-1" strike="noStrike">
                <a:solidFill>
                  <a:srgbClr val="ff3300"/>
                </a:solidFill>
                <a:latin typeface="Verdana"/>
              </a:rPr>
              <a:t>egile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800" spc="-1" strike="noStrike">
                <a:solidFill>
                  <a:srgbClr val="00cc00"/>
                </a:solidFill>
                <a:latin typeface="Verdana"/>
              </a:rPr>
              <a:t>Axul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0" lang="eu-ES" sz="1800" spc="-1" strike="noStrike">
                <a:solidFill>
                  <a:srgbClr val="ff3300"/>
                </a:solidFill>
                <a:latin typeface="Verdana"/>
              </a:rPr>
              <a:t>liburua</a:t>
            </a: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800" spc="-1" strike="noStrike">
                <a:solidFill>
                  <a:srgbClr val="0000ff"/>
                </a:solidFill>
                <a:latin typeface="Verdana"/>
              </a:rPr>
              <a:t>id: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0" lang="eu-ES" sz="1800" spc="-1" strike="noStrike">
                <a:solidFill>
                  <a:srgbClr val="ff3300"/>
                </a:solidFill>
                <a:latin typeface="Verdana"/>
              </a:rPr>
              <a:t>izenburu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800" spc="-1" strike="noStrike">
                <a:solidFill>
                  <a:srgbClr val="00cc00"/>
                </a:solidFill>
                <a:latin typeface="Verdana"/>
              </a:rPr>
              <a:t>Garo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0" lang="eu-ES" sz="1800" spc="-1" strike="noStrike">
                <a:solidFill>
                  <a:srgbClr val="ff3300"/>
                </a:solidFill>
                <a:latin typeface="Verdana"/>
              </a:rPr>
              <a:t>egile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u-ES" sz="1800" spc="-1" strike="noStrike">
                <a:solidFill>
                  <a:srgbClr val="00cc00"/>
                </a:solidFill>
                <a:latin typeface="Verdana"/>
              </a:rPr>
              <a:t>Txomin Agir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"/>
          <p:cNvSpPr/>
          <p:nvPr/>
        </p:nvSpPr>
        <p:spPr>
          <a:xfrm>
            <a:off x="6553080" y="266688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"/>
          <p:cNvSpPr/>
          <p:nvPr/>
        </p:nvSpPr>
        <p:spPr>
          <a:xfrm>
            <a:off x="655308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"/>
          <p:cNvSpPr/>
          <p:nvPr/>
        </p:nvSpPr>
        <p:spPr>
          <a:xfrm>
            <a:off x="655308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"/>
          <p:cNvSpPr/>
          <p:nvPr/>
        </p:nvSpPr>
        <p:spPr>
          <a:xfrm>
            <a:off x="6934320" y="2971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"/>
          <p:cNvSpPr/>
          <p:nvPr/>
        </p:nvSpPr>
        <p:spPr>
          <a:xfrm>
            <a:off x="693432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"/>
          <p:cNvSpPr/>
          <p:nvPr/>
        </p:nvSpPr>
        <p:spPr>
          <a:xfrm>
            <a:off x="6934320" y="3124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"/>
          <p:cNvSpPr/>
          <p:nvPr/>
        </p:nvSpPr>
        <p:spPr>
          <a:xfrm>
            <a:off x="7315200" y="3124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4648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"/>
          <p:cNvSpPr/>
          <p:nvPr/>
        </p:nvSpPr>
        <p:spPr>
          <a:xfrm>
            <a:off x="6934320" y="4800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"/>
          <p:cNvSpPr/>
          <p:nvPr/>
        </p:nvSpPr>
        <p:spPr>
          <a:xfrm>
            <a:off x="6934320" y="5410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"/>
          <p:cNvSpPr/>
          <p:nvPr/>
        </p:nvSpPr>
        <p:spPr>
          <a:xfrm>
            <a:off x="7467480" y="3352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"/>
          <p:cNvSpPr/>
          <p:nvPr/>
        </p:nvSpPr>
        <p:spPr>
          <a:xfrm>
            <a:off x="7467480" y="35053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"/>
          <p:cNvSpPr/>
          <p:nvPr/>
        </p:nvSpPr>
        <p:spPr>
          <a:xfrm>
            <a:off x="7543800" y="3962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"/>
          <p:cNvSpPr/>
          <p:nvPr/>
        </p:nvSpPr>
        <p:spPr>
          <a:xfrm>
            <a:off x="7543800" y="4114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"/>
          <p:cNvSpPr/>
          <p:nvPr/>
        </p:nvSpPr>
        <p:spPr>
          <a:xfrm>
            <a:off x="7467480" y="4952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"/>
          <p:cNvSpPr/>
          <p:nvPr/>
        </p:nvSpPr>
        <p:spPr>
          <a:xfrm>
            <a:off x="7467480" y="51055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"/>
          <p:cNvSpPr/>
          <p:nvPr/>
        </p:nvSpPr>
        <p:spPr>
          <a:xfrm>
            <a:off x="7467480" y="5638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"/>
          <p:cNvSpPr/>
          <p:nvPr/>
        </p:nvSpPr>
        <p:spPr>
          <a:xfrm>
            <a:off x="7467480" y="57913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7696080" y="28195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7696080" y="44956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6172200" y="2362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"/>
          <p:cNvSpPr/>
          <p:nvPr/>
        </p:nvSpPr>
        <p:spPr>
          <a:xfrm>
            <a:off x="617220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DOM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Nodo guztiak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Propietateak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nodeType: nodo mota (Element, Text, Attribute, Comment, Document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Metodoak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cloneNode(sakona): nodoaren kopia bat egiten du, parametroan horrela adieraziz gero azpiko guztiarena ere ba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Atributu nodoak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Propietateak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name: atributuaren ize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value: atributuaren balio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DOM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Testu nodoak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Propietateak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data: testu nodoaren eduk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parentNode: nodoaren ai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previousSibling: nodoaren aurreko ana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nextSibling: nodoaren hurrengo ana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Komentario nodoak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Propietateak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data: testu nodoaren eduk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parentNode: nodoaren ai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previousSibling: nodoaren aurreko ana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nextSibling: nodoaren hurrengo ana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DOM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Elementu nodoak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Propietateak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tagName: etiketaren ize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parentNode: nodoaren ai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childNodes: nodoaren semeen zerren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firstChild: nodoaren lehen seme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lastChild: nodoaren azken seme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previousSibling: nodoaren aurreko ana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nextSibling: nodoaren hurrengo ana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Metodoak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hasChildNodes(): nodoak semerik duen edo ez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appendChild(nodoa): semeen zerrendaren bukaeran gehit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insertBefore(nodoa,errefnodoa): semea gehitu bestearen aurreti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replaceChild(nodoberria,nodoa): sema ordezt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DOM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Elementu nodoak (II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Propietatea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atributtes: atributuen zerren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Metodoak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hasAttributes(): atributurik du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hasAttribute(atributuizen): izen hori duen atributurik duen edo ez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getAttribute(atributuizen): izen hori duen atributuaren balio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getAttributeNode(atributuizen): izen hori duen atributu nodo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removeAttribute(atributuizen): izen hori duen atributua ezabat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removeAttributeNode(atributua): atributua ezabat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setAttribute(atributuizen,balioa): atributua gehitu elementuar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setAttributeNode(atributua): atributua gehitu elementuar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getElementsByTagName(etiketaizen): izen horretako bere azpiko elementu guztiak, edozein mailatan daudel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DOM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Dokumentu nodoak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Propietatea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documentElement: dokumentuaren elementu erro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Metodoak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createElement(etiketaizena): elementu nodoa sortzen d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createTextNode(testua): testu nodoa sortzen du testu horreki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createComment(data): komentario nodoa sortzen d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createAttribute(atributuizen): atributu nodoa sortzen d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DOM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Ingelesezko Wikipedia: http://en.wikipedia.org/wiki/Document_Object_Mod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W3C-ren espezifikazioa: http://www.w3.org/DOM/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Tutoriala: http://www.w3schools.com/d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Txuleta: http://www.wait-till-i.com/stuff/JavaScript-DOM-Cheatsheet.pd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XML - DOM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762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3200" spc="-1" strike="noStrike">
                <a:solidFill>
                  <a:srgbClr val="000000"/>
                </a:solidFill>
                <a:latin typeface="Verdana"/>
              </a:rPr>
              <a:t>XM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3200" spc="-1" strike="noStrike">
                <a:solidFill>
                  <a:srgbClr val="000000"/>
                </a:solidFill>
                <a:latin typeface="Verdana"/>
              </a:rPr>
              <a:t>DO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XM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u-ES" sz="2400" spc="-1" strike="noStrike">
                <a:solidFill>
                  <a:srgbClr val="000000"/>
                </a:solidFill>
                <a:latin typeface="Verdana"/>
              </a:rPr>
              <a:t>eXtensible Markup Langu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AJAX: </a:t>
            </a:r>
            <a:r>
              <a:rPr b="0" i="1" lang="eu-ES" sz="2400" spc="-1" strike="noStrike">
                <a:solidFill>
                  <a:srgbClr val="000000"/>
                </a:solidFill>
                <a:latin typeface="Verdana"/>
              </a:rPr>
              <a:t>Asynchronous Javascript and XM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Dokumentuak markatzeko estandar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Marka edo etiketak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&lt; eta &gt; ikurren artean kodetzen di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Guztiek itxierakoak dituzte &lt;/ eta &gt; ikurren arte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Ixten den etiketak ireki den azkena izan behar du (hau da, guztiz hierarkikoa da, zuhaitz eran adieraz daitek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Etiketa-multzoa ez dago aurretik mugatu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Dokumentu-elementu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Dokumentu osoa barne hartzen duen etiketa nagus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Atributuak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Etiketek atributuak izan ditzakete, </a:t>
            </a:r>
            <a:r>
              <a:rPr b="0" i="1" lang="eu-ES" sz="2000" spc="-1" strike="noStrike">
                <a:solidFill>
                  <a:srgbClr val="000000"/>
                </a:solidFill>
                <a:latin typeface="Verdana"/>
              </a:rPr>
              <a:t>atributua=“balioa”</a:t>
            </a: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 formatu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"/>
          <p:cNvSpPr/>
          <p:nvPr/>
        </p:nvSpPr>
        <p:spPr>
          <a:xfrm>
            <a:off x="6629400" y="2286000"/>
            <a:ext cx="685800" cy="6094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XM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Iruzkinak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&lt;!-- eta --&gt; arte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Prozesatze-aginduak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&lt;? eta ?&gt; ikurren artean, normalean hasier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Dokumentu motaren deklarazioa, CSS orria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Entitateak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&lt;: &amp;l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&gt;: &amp;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&amp;: &amp;amp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: &amp;quo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: &amp;apos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XM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&lt;liburutegia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&lt;liburua id=“1”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&lt;izenburua&gt;Gero&lt;/izenburua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&lt;egilea&gt;Axular&lt;/egilea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&lt;/liburua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&lt;liburua id=“2”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&lt;izenburua&gt;Garoa&lt;/izenburua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&lt;egilea&gt;Txomin Agirre&lt;/egilea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&lt;/liburua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&lt;/liburutegia&g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XM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XML aplikazioak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Erabilera zabaleko eta adostutako XML dokumentu-mota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Adibidez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XHTM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R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MathM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TE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18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XML aplikazioak edo dokumentu-motak definitzek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DT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XML Sche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Relax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Etiketen hierarkia, bakoitzak onartzen dituen atributuak, atributuen balio posibleak... definitzen dituz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XM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Izen-espazioak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XML aplikazio bat baino gehiago dokumentu-berean konbinatu ahal izatek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XML dokumentuetan bilaketak egitek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XPa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XQue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XM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Programazio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D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SA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XUpd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XSL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Itxura-emate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C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XSL-F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Beste batzuk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XLin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XPoin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4400" spc="-1" strike="noStrike">
                <a:solidFill>
                  <a:srgbClr val="000000"/>
                </a:solidFill>
                <a:latin typeface="Verdana"/>
              </a:rPr>
              <a:t>XM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Euskarazko Wikipedia: 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http://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eu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.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4"/>
              </a:rPr>
              <a:t>wikipedia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5"/>
              </a:rPr>
              <a:t>.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6"/>
              </a:rPr>
              <a:t>org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7"/>
              </a:rPr>
              <a:t>/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8"/>
              </a:rPr>
              <a:t>wiki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9"/>
              </a:rPr>
              <a:t>/XM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Ingelesezko Wikipedia: 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10"/>
              </a:rPr>
              <a:t>http://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11"/>
              </a:rPr>
              <a:t>en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12"/>
              </a:rPr>
              <a:t>.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13"/>
              </a:rPr>
              <a:t>wikipedia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14"/>
              </a:rPr>
              <a:t>.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15"/>
              </a:rPr>
              <a:t>org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16"/>
              </a:rPr>
              <a:t>/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17"/>
              </a:rPr>
              <a:t>wiki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18"/>
              </a:rPr>
              <a:t>/XM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W3C-ren espezifikazioa: 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19"/>
              </a:rPr>
              <a:t>http://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20"/>
              </a:rPr>
              <a:t>www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21"/>
              </a:rPr>
              <a:t>.w3.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22"/>
              </a:rPr>
              <a:t>org</a:t>
            </a:r>
            <a:r>
              <a:rPr b="0" lang="eu-ES" sz="2400" spc="-1" strike="noStrike" u="sng">
                <a:solidFill>
                  <a:srgbClr val="009999"/>
                </a:solidFill>
                <a:uFillTx/>
                <a:latin typeface="Verdana"/>
                <a:hlinkClick r:id="rId23"/>
              </a:rPr>
              <a:t>/TR/2006/REC-xml11-20060816/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400" spc="-1" strike="noStrike">
                <a:solidFill>
                  <a:srgbClr val="000000"/>
                </a:solidFill>
                <a:latin typeface="Verdana"/>
              </a:rPr>
              <a:t>Tutorialak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XML euskaraz: http://www.blogak.com/programatzen/xml-gi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XML ingelesez: 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24"/>
              </a:rPr>
              <a:t>http://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25"/>
              </a:rPr>
              <a:t>www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26"/>
              </a:rPr>
              <a:t>.w3schools.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27"/>
              </a:rPr>
              <a:t>com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28"/>
              </a:rPr>
              <a:t>/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29"/>
              </a:rPr>
              <a:t>xml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30"/>
              </a:rPr>
              <a:t>/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31"/>
              </a:rPr>
              <a:t>default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32"/>
              </a:rPr>
              <a:t>.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33"/>
              </a:rPr>
              <a:t>as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DTD: 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34"/>
              </a:rPr>
              <a:t>http://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35"/>
              </a:rPr>
              <a:t>www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36"/>
              </a:rPr>
              <a:t>.w3schools.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37"/>
              </a:rPr>
              <a:t>com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38"/>
              </a:rPr>
              <a:t>/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39"/>
              </a:rPr>
              <a:t>dtd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40"/>
              </a:rPr>
              <a:t>/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41"/>
              </a:rPr>
              <a:t>default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42"/>
              </a:rPr>
              <a:t>.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43"/>
              </a:rPr>
              <a:t>as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XML Schema: 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44"/>
              </a:rPr>
              <a:t>http://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45"/>
              </a:rPr>
              <a:t>www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46"/>
              </a:rPr>
              <a:t>.w3schools.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47"/>
              </a:rPr>
              <a:t>com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48"/>
              </a:rPr>
              <a:t>/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49"/>
              </a:rPr>
              <a:t>schema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50"/>
              </a:rPr>
              <a:t>/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51"/>
              </a:rPr>
              <a:t>default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52"/>
              </a:rPr>
              <a:t>.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53"/>
              </a:rPr>
              <a:t>as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u-ES" sz="2000" spc="-1" strike="noStrike">
                <a:solidFill>
                  <a:srgbClr val="000000"/>
                </a:solidFill>
                <a:latin typeface="Verdana"/>
              </a:rPr>
              <a:t>RelaxNG: 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54"/>
              </a:rPr>
              <a:t>http://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55"/>
              </a:rPr>
              <a:t>www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56"/>
              </a:rPr>
              <a:t>.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57"/>
              </a:rPr>
              <a:t>oasis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58"/>
              </a:rPr>
              <a:t>-open.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59"/>
              </a:rPr>
              <a:t>org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60"/>
              </a:rPr>
              <a:t>/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61"/>
              </a:rPr>
              <a:t>committees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62"/>
              </a:rPr>
              <a:t>/relax-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63"/>
              </a:rPr>
              <a:t>ng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64"/>
              </a:rPr>
              <a:t>/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65"/>
              </a:rPr>
              <a:t>tutorial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66"/>
              </a:rPr>
              <a:t>.</a:t>
            </a:r>
            <a:r>
              <a:rPr b="0" lang="eu-ES" sz="2000" spc="-1" strike="noStrike" u="sng">
                <a:solidFill>
                  <a:srgbClr val="009999"/>
                </a:solidFill>
                <a:uFillTx/>
                <a:latin typeface="Verdana"/>
                <a:hlinkClick r:id="rId67"/>
              </a:rPr>
              <a:t>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3T09:43:12Z</dcterms:created>
  <dc:creator>...</dc:creator>
  <dc:description/>
  <dc:language>en-US</dc:language>
  <cp:lastModifiedBy>Igor Leturia</cp:lastModifiedBy>
  <dcterms:modified xsi:type="dcterms:W3CDTF">2007-07-16T12:59:54Z</dcterms:modified>
  <cp:revision>495</cp:revision>
  <dc:subject/>
  <dc:title>Presentación de PowerPoint</dc:title>
</cp:coreProperties>
</file>