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u.wikipedia.org/wiki/JavaScript" TargetMode="External"/><Relationship Id="rId2" Type="http://schemas.openxmlformats.org/officeDocument/2006/relationships/hyperlink" Target="http://eu.wikipedia.org/wiki/JavaScript" TargetMode="External"/><Relationship Id="rId3" Type="http://schemas.openxmlformats.org/officeDocument/2006/relationships/hyperlink" Target="http://eu.wikipedia.org/wiki/JavaScript" TargetMode="External"/><Relationship Id="rId4" Type="http://schemas.openxmlformats.org/officeDocument/2006/relationships/hyperlink" Target="http://eu.wikipedia.org/wiki/JavaScript" TargetMode="External"/><Relationship Id="rId5" Type="http://schemas.openxmlformats.org/officeDocument/2006/relationships/hyperlink" Target="http://eu.wikipedia.org/wiki/JavaScript" TargetMode="External"/><Relationship Id="rId6" Type="http://schemas.openxmlformats.org/officeDocument/2006/relationships/hyperlink" Target="http://eu.wikipedia.org/wiki/JavaScript" TargetMode="External"/><Relationship Id="rId7" Type="http://schemas.openxmlformats.org/officeDocument/2006/relationships/hyperlink" Target="http://eu.wikipedia.org/wiki/JavaScript" TargetMode="External"/><Relationship Id="rId8" Type="http://schemas.openxmlformats.org/officeDocument/2006/relationships/hyperlink" Target="http://eu.wikipedia.org/wiki/JavaScript" TargetMode="External"/><Relationship Id="rId9" Type="http://schemas.openxmlformats.org/officeDocument/2006/relationships/hyperlink" Target="http://eu.wikipedia.org/wiki/JavaScript" TargetMode="External"/><Relationship Id="rId10" Type="http://schemas.openxmlformats.org/officeDocument/2006/relationships/hyperlink" Target="http://eu.wikipedia.org/wiki/JavaScript" TargetMode="External"/><Relationship Id="rId11" Type="http://schemas.openxmlformats.org/officeDocument/2006/relationships/hyperlink" Target="http://en.wikipedia.org/wiki/JavaScript" TargetMode="External"/><Relationship Id="rId12" Type="http://schemas.openxmlformats.org/officeDocument/2006/relationships/hyperlink" Target="http://en.wikipedia.org/wiki/JavaScript" TargetMode="External"/><Relationship Id="rId13" Type="http://schemas.openxmlformats.org/officeDocument/2006/relationships/hyperlink" Target="http://en.wikipedia.org/wiki/JavaScript" TargetMode="External"/><Relationship Id="rId14" Type="http://schemas.openxmlformats.org/officeDocument/2006/relationships/hyperlink" Target="http://en.wikipedia.org/wiki/JavaScript" TargetMode="External"/><Relationship Id="rId15" Type="http://schemas.openxmlformats.org/officeDocument/2006/relationships/hyperlink" Target="http://en.wikipedia.org/wiki/JavaScript" TargetMode="External"/><Relationship Id="rId16" Type="http://schemas.openxmlformats.org/officeDocument/2006/relationships/hyperlink" Target="http://en.wikipedia.org/wiki/JavaScript" TargetMode="External"/><Relationship Id="rId17" Type="http://schemas.openxmlformats.org/officeDocument/2006/relationships/hyperlink" Target="http://en.wikipedia.org/wiki/JavaScript" TargetMode="External"/><Relationship Id="rId18" Type="http://schemas.openxmlformats.org/officeDocument/2006/relationships/hyperlink" Target="http://en.wikipedia.org/wiki/JavaScript" TargetMode="External"/><Relationship Id="rId19" Type="http://schemas.openxmlformats.org/officeDocument/2006/relationships/hyperlink" Target="http://en.wikipedia.org/wiki/JavaScript" TargetMode="External"/><Relationship Id="rId20" Type="http://schemas.openxmlformats.org/officeDocument/2006/relationships/hyperlink" Target="http://en.wikipedia.org/wiki/JavaScript" TargetMode="External"/><Relationship Id="rId21" Type="http://schemas.openxmlformats.org/officeDocument/2006/relationships/hyperlink" Target="http://www.ecma-international.org/publications/standards/Ecma-262.htm" TargetMode="External"/><Relationship Id="rId22" Type="http://schemas.openxmlformats.org/officeDocument/2006/relationships/hyperlink" Target="http://www.ecma-international.org/publications/standards/Ecma-262.htm" TargetMode="External"/><Relationship Id="rId23" Type="http://schemas.openxmlformats.org/officeDocument/2006/relationships/hyperlink" Target="http://www.ecma-international.org/publications/standards/Ecma-262.htm" TargetMode="External"/><Relationship Id="rId24" Type="http://schemas.openxmlformats.org/officeDocument/2006/relationships/hyperlink" Target="http://www.ecma-international.org/publications/standards/Ecma-262.htm" TargetMode="External"/><Relationship Id="rId25" Type="http://schemas.openxmlformats.org/officeDocument/2006/relationships/hyperlink" Target="http://www.ecma-international.org/publications/standards/Ecma-262.htm" TargetMode="External"/><Relationship Id="rId26" Type="http://schemas.openxmlformats.org/officeDocument/2006/relationships/hyperlink" Target="http://www.ecma-international.org/publications/standards/Ecma-262.htm" TargetMode="External"/><Relationship Id="rId27" Type="http://schemas.openxmlformats.org/officeDocument/2006/relationships/hyperlink" Target="http://www.ecma-international.org/publications/standards/Ecma-262.htm" TargetMode="External"/><Relationship Id="rId28" Type="http://schemas.openxmlformats.org/officeDocument/2006/relationships/hyperlink" Target="http://www.ecma-international.org/publications/standards/Ecma-262.htm" TargetMode="External"/><Relationship Id="rId29" Type="http://schemas.openxmlformats.org/officeDocument/2006/relationships/hyperlink" Target="http://www.ecma-international.org/publications/standards/Ecma-262.htm" TargetMode="External"/><Relationship Id="rId30" Type="http://schemas.openxmlformats.org/officeDocument/2006/relationships/hyperlink" Target="http://www.ecma-international.org/publications/standards/Ecma-262.htm" TargetMode="External"/><Relationship Id="rId31" Type="http://schemas.openxmlformats.org/officeDocument/2006/relationships/hyperlink" Target="http://www.ecma-international.org/publications/standards/Ecma-262.htm" TargetMode="External"/><Relationship Id="rId32" Type="http://schemas.openxmlformats.org/officeDocument/2006/relationships/hyperlink" Target="http://www.ecma-international.org/publications/standards/Ecma-262.htm" TargetMode="External"/><Relationship Id="rId33" Type="http://schemas.openxmlformats.org/officeDocument/2006/relationships/hyperlink" Target="http://www.ecma-international.org/publications/standards/Ecma-262.htm" TargetMode="External"/><Relationship Id="rId34" Type="http://schemas.openxmlformats.org/officeDocument/2006/relationships/hyperlink" Target="http://www.ecma-international.org/publications/standards/Ecma-262.htm" TargetMode="External"/><Relationship Id="rId35" Type="http://schemas.openxmlformats.org/officeDocument/2006/relationships/hyperlink" Target="http://www.ecma-international.org/publications/standards/Ecma-262.htm" TargetMode="External"/><Relationship Id="rId36" Type="http://schemas.openxmlformats.org/officeDocument/2006/relationships/hyperlink" Target="http://www.ecma-international.org/publications/standards/Ecma-262.htm" TargetMode="External"/><Relationship Id="rId37" Type="http://schemas.openxmlformats.org/officeDocument/2006/relationships/hyperlink" Target="http://www.w3schools.com/js/default.asp" TargetMode="External"/><Relationship Id="rId38" Type="http://schemas.openxmlformats.org/officeDocument/2006/relationships/hyperlink" Target="http://www.w3schools.com/js/default.asp" TargetMode="External"/><Relationship Id="rId39" Type="http://schemas.openxmlformats.org/officeDocument/2006/relationships/hyperlink" Target="http://www.w3schools.com/js/default.asp" TargetMode="External"/><Relationship Id="rId40" Type="http://schemas.openxmlformats.org/officeDocument/2006/relationships/hyperlink" Target="http://www.w3schools.com/js/default.asp" TargetMode="External"/><Relationship Id="rId41" Type="http://schemas.openxmlformats.org/officeDocument/2006/relationships/hyperlink" Target="http://www.w3schools.com/js/default.asp" TargetMode="External"/><Relationship Id="rId42" Type="http://schemas.openxmlformats.org/officeDocument/2006/relationships/hyperlink" Target="http://www.w3schools.com/js/default.asp" TargetMode="External"/><Relationship Id="rId43" Type="http://schemas.openxmlformats.org/officeDocument/2006/relationships/hyperlink" Target="http://www.w3schools.com/js/default.asp" TargetMode="External"/><Relationship Id="rId44" Type="http://schemas.openxmlformats.org/officeDocument/2006/relationships/hyperlink" Target="http://www.w3schools.com/js/default.asp" TargetMode="External"/><Relationship Id="rId45" Type="http://schemas.openxmlformats.org/officeDocument/2006/relationships/hyperlink" Target="http://www.w3schools.com/js/default.asp" TargetMode="External"/><Relationship Id="rId46" Type="http://schemas.openxmlformats.org/officeDocument/2006/relationships/hyperlink" Target="http://www.w3schools.com/js/default.asp" TargetMode="External"/><Relationship Id="rId4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Funtzi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unction funtzioa(par1, par2,..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return balio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gizt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or (aldagaia=balioa1;baldintza;aldagaia_aldatu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gizt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or (aldagaia in multzo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giztak (I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while (baldintz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giztak (IV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while (baldintza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giztak (V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reak: begizta amai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ontinue: begiztaren hurrengo iteraziora pasa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Salbuesp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atch (errore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Salbuespen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hrow errore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bjektu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tring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length, indexOf(), lastIndexOf(), replace(), substring(), replace(), split(), toLowerCase(), toUpperCase()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a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ate(), toString(), getDay()..., setDay()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rra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length, concat(), sort(), reverse(), pop(), push(), shift(), slice(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ool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Math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E,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N2, LN10, LOG2E, LOG10E, PI, SQRT1_2, SQRT2, abs(), acos(), asin(), atan(), ceil(), cos(), exp(), floor(), log(), max(), min(), pow(), random(), round(), sin(), sqrt(), tan()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922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1. adibid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title&gt;1. adibidea&lt;/titl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p&gt;Aurretik zegoena&lt;/p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script type="text/javascript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or (i=0;i&lt;5;i++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ocument.write('&lt;p&gt;JavaScript bidez gehitua&lt;/p&gt;'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scrip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JavaScrip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XPa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DOM objektu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9906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ra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u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CMA-ren espezifikazio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ecm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-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international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publication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standard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Ecm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-262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 euskaraz: http://www.blogak.com/programatzen/javascript-oinarrizko-g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 ingelesez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.w3schools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0"/>
              </a:rPr>
              <a:t>com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1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2"/>
              </a:rPr>
              <a:t>js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3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4"/>
              </a:rPr>
              <a:t>default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6"/>
              </a:rPr>
              <a:t>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xuleta: JavaScript: http://www.ilovejackdaniels.com/javascript_cheat_sheet.p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abigatzaileek DOM inplementazio bat d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abigatzaileek bistaratzen dituzten HTML dokumentuak DOM zuhaitz baten kargatzen dituzte,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document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aldagai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-en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document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aldagaia manipulatu dezakegu DOM-ek eskaintzen dituen metodo eta propietateen bid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document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elementuan egindako aldaketak bistaratutako HTML-an ere egingo d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document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objektuan ustekabeko gauzarik ez agertzeko, komeni da orriak XHTML-n egot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3047760"/>
            <a:ext cx="3733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tegi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a id=“1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burua&gt;Gero&lt;/izen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egilea&gt;Axular&lt;/egile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a id=“2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burua&gt;Garoa&lt;/izen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egilea&gt;Txomin Agirre&lt;/egile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tegi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0"/>
            <a:ext cx="655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egia=document.getElementsByTagName('liburutegia')[0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egitaula=document.createElement('table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egitaula.setAttribute('border','1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ak=liburutegia.getElementsByTagName('liburu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libur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a=liburuak[i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aula=document.createElement('tr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egitaula.appendChild(liburutaul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semeak=liburua.childNodes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j=0;j&lt;semeak.length;j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semea=semeak[j]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f (semea.nodeType==semea.ELEMENT_NO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semetaula=document.createElement('td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aula.appendChild(semetaul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f (semea.tagName=='IZENBURUA'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talika=document.createElement('i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semetaula.appendChild(italik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talika.appendChild(semea.childNodes[0]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semetaula.appendChild(semea.childNodes[0]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tegia.parentNode.replaceChild(liburutegitaula,liburutegia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2. adibid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getElementsByTagName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oso erabilgarria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M-eko funtzioez gain, JavaScript-eko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getElementsByName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name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atributuaren bidez bilatzeko) eta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getElementById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(id atributuaren bidez bilatzeko) funtzioak ere oso baliagarriak di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Pa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ilatu nahi diren elementuak konplikatuak badira, lehen aipatutako funtzioak askotan ez dira nahik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Zuhaitz osoa arakatzea konplikatua izan daite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Path da egokiena horretarak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Path ere erabili daiteke, baina soilik Firefox-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cument.evaluate(xpath_espresioa,nodoa,null,0,nul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 bidezko itxura aldaketak CSS-an definitutako estiloak erabiliz egin daitezke eta egitea komeni d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Kodea sinple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gramazioa eta itxura bereizita manten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3047760"/>
            <a:ext cx="373392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tegi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a id=“1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burua&gt;Gero&lt;/izen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egilea&gt;Axular&lt;/egile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a id=“2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burua&gt;Garoa&lt;/izen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egilea&gt;Txomin Agirre&lt;/egile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tegi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0"/>
            <a:ext cx="63244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.taula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isplay: tabl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order: 1px solid; 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.taula_lerroa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isplay: table-row; 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.taula_gelaska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isplay: table-cel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order: 1px solid; 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getElementsByTagName('liburutegia')[0].setAttribute('class','taul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ak=document.getElementsByTagName('liburu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libur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ak[i].setAttribute('class','taula_lerro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buruak=document.getElementsByTagName('izenburu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izenbur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buruak[i].setAttribute('class','taula_gelask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egileak=document.getElementsByTagName('egile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egile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egileak[i].setAttribute('class','taula_gelask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3. adibid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TML orriko elementuetan gertaerak jazotzen dir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Kargatzen amaitu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agua gainetik pasatu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Klik egin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Gertaera bakoitzari maneiatzaile bat eslei dakio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a onclick=“javascript_funtzioa()”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Saguar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click (aurretik onmousedown eta onmouse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dblcli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mouse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mouse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mouse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mousem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mouse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eklatuar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keypress (aurretik onkeydown eta onkeyu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keyd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key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: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Asynchronous Javascript and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eb orrietan bezeroaren aldean, hau da, nabigatzailean, aldaketak egiteko erabiltzen den programazio lengoa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JavaScript ez da Java, egia esan C-ren antzekoa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etscape-k sortu zuen 1995e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Microsoft-ek bere inplementazioa sortu zuen, J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Microsoft-ek ECMA-ra bidali zuen estandar bezala onartzeko, eta horrela sortu zen ECMAScript estandar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Gaur egungo nabigatzaileek erabiltzen dutena benetan ECMAScript estandarra 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267080" y="1905120"/>
            <a:ext cx="17528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rriarenak / markoenak / objektu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lo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unlo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ab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re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scro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Formularioetako elementu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sel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subm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re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fo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bl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biltzaile interfazeko elementu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domfocus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domfocus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domactiv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M zuhaitzeko elementue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subtreemod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nodeinser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nodeinsertedintodocu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attrmod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oncharacterdatamod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047760"/>
            <a:ext cx="3733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tegi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a id=“1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burua&gt;Gero&lt;/izen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egilea&gt;Axular&lt;/egile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liburua id=“2”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izenburua&gt;Garoa&lt;/izen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egilea&gt;Txomin Agirre&lt;/egile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/liburutegi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&lt;a href="Taula bihurtu" onclick="taulabihurtu();return false;"&gt; Taula bihurtu&lt;/a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0"/>
            <a:ext cx="67816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.taula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isplay: table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order: 1px solid; 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.taula_lerroa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isplay: table-row; 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.taula_gelaska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isplay: table-cell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border: 1px solid; 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unction taulabihurtu(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document.getElementsByTagName('liburutegia')[0].setAttribute('class','taul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ak=document.getElementsByTagName('liburu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libur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liburuak[i].setAttribute('class','taula_lerro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buruak=document.getElementsByTagName('izenburu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izenburu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izenburuak[i].setAttribute('class','taula_gelask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egileak=document.getElementsByTagName('egile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for (i=0;i&lt;egileak.length;i++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egileak[i].setAttribute('class','taula_gelaska'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2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4. adibid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Gertaer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http://en.wikipedia.org/wiki/DOM_Ev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OM objektu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M zuhaitzeko elementuek, DOM-eko metodoez gain, motaren araberako propietate eta metodo berezituak dituz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dibidez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auletako lerroek: cells[]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cument elementuak: forms[], images[]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ormularioek: elements[], method, reset(), submit()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elect-ek: options[], selectedIndex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nput-ek: value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aulek: cells[], rows[], insertRow(), deleteRow()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auletako lerroek: cells[], insertCelll(), deleteCell()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auletako gelaskek: colSpan, rowSpan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OM objektu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bjektu guztiek dituzte propietate haue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lassName: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atributua irakurri edo aldatzeko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getAttribute(‘class’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ta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etAttribute(‘class’,balioa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ez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ir: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dir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atributua irakurri edo aldatzeko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getAttribute(‘dir’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ta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etAttribute(‘dir’,balioa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ez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lang: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lang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atributua irakurri edo aldatzeko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getAttribute(‘lang’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ta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etAttribute(‘lang’,balioa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ez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d: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id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atributua irakurri edo aldatzeko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getAttribute(‘id’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ta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etAttribute(‘id’,balioa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ez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title: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title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atributua irakurri edo aldatzeko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getAttribute(‘title’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ta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setAttribute(‘title’,balioa)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beza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rokorrean, esan daiteke objektu batek bere HTML etiketak onartzen dituen atributu guztiak izango dituela gutxienez propietate gi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OM objektu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bjektu guztiek dituzten bi propietate interesgar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ty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SS-ko estiloak bezalako gauzak onartzen dit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osition: relative; float:left; width: 10em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margin-top: 1px; border: 1px solid’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orrez gain, propietate honek azpipropietateak dit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wid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marginT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bord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nnerHTML: etiketaren barruko testua aldatzeko, beste etiketa batzuk izan ditzake barru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OM objektua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Objektu guztien propietate eta metodo guztiak: http://www.w3schools.com/htmldom/dom_reference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TML orri baten JavaScript zati bat sartzek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script type=“text/javascript”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/scrip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Kanpoko fitxategi bateko JavaScript zatientza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script type=“text/javascript” src=“fitxategia.js”&gt;&lt;/scrip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ldagai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var aldagaia=bali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ldagaia=bali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aldintzazk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f (baldintz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aldintzazko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witch (aldagai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ase balioa1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ase balioa2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aldintzazkoak (I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ldagaia=(baldintza)?balioa1:balioa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Sarrer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ragile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ritmetikoak: +, -, *, /, %, ++, -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sleitzekoak: =, +=, -=, *=, /=, %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Konparaziokoak: ==, === (balioaz gain mota ere konparatzeko), !=, &lt;, &gt;, &lt;=, &gt;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Logikoak: &amp;&amp;, ||, 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Kateak lotzeko: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6T13:01:50Z</dcterms:modified>
  <cp:revision>524</cp:revision>
  <dc:subject/>
  <dc:title>Presentación de PowerPoint</dc:title>
</cp:coreProperties>
</file>